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showtime.wav" ContentType="audio/x-wav"/>
  <Override PartName="/ppt/media/allday1.wav" ContentType="audio/x-wav"/>
  <Override PartName="/ppt/media/entertainment.wav" ContentType="audio/x-wav"/>
  <Override PartName="/ppt/media/justas-thought.wav" ContentType="audio/x-wav"/>
  <Override PartName="/ppt/media/timeisit.wav" ContentType="audio/x-wav"/>
  <Override PartName="/ppt/media/tim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3B0-6784-4599-9865-EDB0A05C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50A1-A7F4-4F0A-8D8A-4F6B3F45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E6A-25EF-45E2-AC45-D4EBC3FA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FDB-EAE4-4563-B6D5-E4617049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37F5-20E3-4511-A2CA-7CC3E8EE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F714-5D57-447A-BABE-1DC399CD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12D6-864D-4126-A128-DB904AEB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751A-DDB4-4901-9B43-25DCFC6B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FE21-2190-4341-A9DA-99957463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B40F-12A9-4D97-9F0E-57DFCE3D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C74B-C37E-4960-B6C7-651FA163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E826-7132-489F-BC26-8FCEC559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3713-FAED-4B8C-A0C7-CEE0EF05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4724-E14E-475B-967B-22200A97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7E80-A5CA-4531-AFD0-7723A5B9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6D16-2C4C-49C2-B90A-35C16AE4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3D8C-F11C-47B9-9AF2-09D77C4E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C69-3980-4C76-B895-8077A01E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86DF-7DA5-49DA-841C-587C1878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9EA-3293-4156-A370-59112FE9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38C8-085A-433D-986F-ABAB1ACD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0A4D-B146-4FF7-B8A8-0A8A0AD3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BA6B-F1FC-47D4-A578-6F1AB065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340-7596-4AD3-B81A-F26B39B2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3080" y="-14400"/>
            <a:ext cx="1521000" cy="6923160"/>
            <a:chOff x="-73080" y="-14400"/>
            <a:chExt cx="1521000" cy="6923160"/>
          </a:xfrm>
        </p:grpSpPr>
        <p:grpSp>
          <p:nvGrpSpPr>
            <p:cNvPr id="1" name=""/>
            <p:cNvGrpSpPr/>
            <p:nvPr/>
          </p:nvGrpSpPr>
          <p:grpSpPr>
            <a:xfrm>
              <a:off x="-73080" y="-14400"/>
              <a:ext cx="1521000" cy="6923160"/>
              <a:chOff x="-73080" y="-14400"/>
              <a:chExt cx="1521000" cy="6923160"/>
            </a:xfrm>
          </p:grpSpPr>
          <p:sp>
            <p:nvSpPr>
              <p:cNvPr id="2" name=""/>
              <p:cNvSpPr/>
              <p:nvPr/>
            </p:nvSpPr>
            <p:spPr>
              <a:xfrm>
                <a:off x="-73080" y="-14400"/>
                <a:ext cx="1521000" cy="692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-17640" y="171360"/>
                <a:ext cx="1460520" cy="179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-73080" y="1890720"/>
                <a:ext cx="1521000" cy="50148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3d6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" name=""/>
            <p:cNvSpPr/>
            <p:nvPr/>
          </p:nvSpPr>
          <p:spPr>
            <a:xfrm>
              <a:off x="152280" y="2133720"/>
              <a:ext cx="152640" cy="472284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2514600"/>
              <a:ext cx="152280" cy="434196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3733920"/>
              <a:ext cx="152280" cy="312264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3505320"/>
              <a:ext cx="152640" cy="335124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124F-BD95-41E9-B977-B61943583280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-22320" y="3240"/>
            <a:ext cx="1470240" cy="6869160"/>
            <a:chOff x="-22320" y="3240"/>
            <a:chExt cx="1470240" cy="6869160"/>
          </a:xfrm>
        </p:grpSpPr>
        <p:sp>
          <p:nvSpPr>
            <p:cNvPr id="51" name=""/>
            <p:cNvSpPr/>
            <p:nvPr/>
          </p:nvSpPr>
          <p:spPr>
            <a:xfrm>
              <a:off x="-22320" y="3240"/>
              <a:ext cx="1470240" cy="686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-22320" y="3200400"/>
              <a:ext cx="1470240" cy="36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3d6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-17640" y="1619280"/>
              <a:ext cx="1460520" cy="179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" name=""/>
            <p:cNvGrpSpPr/>
            <p:nvPr/>
          </p:nvGrpSpPr>
          <p:grpSpPr>
            <a:xfrm>
              <a:off x="152280" y="3581280"/>
              <a:ext cx="1067040" cy="3275280"/>
              <a:chOff x="152280" y="3581280"/>
              <a:chExt cx="1067040" cy="3275280"/>
            </a:xfrm>
          </p:grpSpPr>
          <p:sp>
            <p:nvSpPr>
              <p:cNvPr id="55" name=""/>
              <p:cNvSpPr/>
              <p:nvPr/>
            </p:nvSpPr>
            <p:spPr>
              <a:xfrm>
                <a:off x="152280" y="3581280"/>
                <a:ext cx="152640" cy="327528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44800"/>
                <a:ext cx="152280" cy="301176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2120" y="4691160"/>
                <a:ext cx="152280" cy="216540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66680" y="4533840"/>
                <a:ext cx="152640" cy="232272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A18D-0D66-45E0-98CE-B07FDA5A2171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howtim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llday1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im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ntertainment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ustas-thought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imeisit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1549440"/>
            <a:ext cx="8001000" cy="355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et's get started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20:41:59Z</dcterms:created>
  <dc:creator>Marilyn Western</dc:creator>
  <dc:description/>
  <dc:language>en-US</dc:language>
  <cp:lastModifiedBy>admin</cp:lastModifiedBy>
  <dcterms:modified xsi:type="dcterms:W3CDTF">2004-08-22T02:56:46Z</dcterms:modified>
  <cp:revision>12</cp:revision>
  <dc:subject/>
  <dc:title>PowerPoint Presentation</dc:title>
</cp:coreProperties>
</file>